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FD9-260B-4869-B525-B6F1240F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919-D64A-4742-B3DC-A0A44B4C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B3F-0030-486B-A17B-2C2D3B4E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263-CFE2-4CBB-BD4B-D2546A53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A87-577B-44AF-9E89-5BC6D45C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2ED-B0DE-45BB-B09D-5519B38D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BA6-A206-4D4E-9151-E3CCAA2D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B3E-0DD7-4C08-BDAC-A9B8C455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426-599F-42AC-BE83-6569B485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2895-CE3E-4DE8-A871-A9802637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677-9981-4D70-8523-BA3F5680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9BB-318B-49F4-BBEE-0C7D5611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6CE5-7757-487C-BF26-21EC20415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Fi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s make a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one area of physical fitness you would like 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goal using S.M.A.R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 have one show it to Mr. Pea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goal on ning.co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Set Goa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setting goals is to allow you to realize 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are the maps to help us achieve a desired outco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et a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set goals using the S.M.A.R.T. acrony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M.A.R.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is for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are going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ction words (run, lift, ju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Pearson’s Example:  I will be able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.1 miles in 24 minutes by January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A.R.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is for Meas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sk needs to be meas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needs to be quantitative dat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NOT BE QUAL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Pearson’s Example:  I will be able to ru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.1 miles in 24 min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January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R.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for Att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sk needs to be difficult to reach, but not impo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Pearson’s Example:  I will be able to run 3.1 miles in 24 minutes by January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goal attainabl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R.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for Att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sk needs to be difficult to reach, but not impo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 goal that will challenge you, but make it realisti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Pearson’s Example:  I will be able to run 3.1 miles in 24 minutes by January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goal attainabl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is for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c means challenge, but not impossib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Pearson’s Example:  I will be able to run 3.1 miles in 24 minutes by January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goal realistic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is for 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 timetable that is reasonable, but a timetable keeps us on trac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Pearson’s Example:  I will be able to run 3.1 miles in 24 minutes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anuary 18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2010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6:12:30Z</dcterms:created>
  <dc:creator>CHS</dc:creator>
  <dc:description/>
  <dc:language>en-US</dc:language>
  <cp:lastModifiedBy>CHS</cp:lastModifiedBy>
  <dcterms:modified xsi:type="dcterms:W3CDTF">2009-09-30T16:51:50Z</dcterms:modified>
  <cp:revision>2</cp:revision>
  <dc:subject/>
  <dc:title>Setting Goals</dc:title>
</cp:coreProperties>
</file>